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C46-3201-4CC2-8894-716E4308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122-7B76-40B1-A64A-BF918B71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731-16C4-40C9-9D96-F43163FE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EB4-6BF9-4DFF-96E3-56CE7663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E7A-862F-4EFA-A205-ED3346F6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4B9-4782-4147-B811-2DA6628E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A15-890E-4B89-9DA5-1E270A12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4C7-017C-40E5-977A-08EA52E5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87B-83B9-415A-994D-60855414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026-879D-44EB-9F80-62B44758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1A7-6CB8-4D85-8017-BD920C55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7FB-6F1A-4CEE-B983-405EA0EB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0711-994C-4936-9856-80EEE4C53DD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r, We Would See Jesus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on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83-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9:33-37; Matt. 18:15-35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. 8:19-22; John 7:2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1C9-C617-4250-82EF-B2556A1BFBC7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s of Discipleship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8:19-22; Luke 9:57-6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’s service to Christ is so important it must come before all earthly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forts of the temporal life are second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responsibilities are second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 dead (spiritually dead) bury the dead (natural de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ose of the house take care of th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ffairs and responsibilities of life cannot interfere with spiritual services we owe Chri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FB8-0CC1-4683-AF1E-F6A9B79DB624}" type="slidenum">
              <a:t>10</a:t>
            </a:fld>
          </a:p>
        </p:txBody>
      </p:sp>
    </p:spTree>
  </p:cSld>
  <p:transition>
    <p:blinds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 Time Has Not Yet Come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hn 7:2-9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as still in Gali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east of Tabernacles was at 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brothers encouraged Him to go to Judea to let everyone see Him and His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brothers did not believe at this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is:  James, Jesus’ brother (Gal. 1:19) was later an elder at Jerusalem and wrote the book of “James,” and His brother Jude wrote the book of “Jude” (Jude 1: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E2C-B70D-48D6-A2FD-BA0E1757ACD2}" type="slidenum">
              <a:t>11</a:t>
            </a:fld>
          </a:p>
        </p:txBody>
      </p:sp>
    </p:spTree>
  </p:cSld>
  <p:transition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 Time Has Not Yet Come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hn 7:2-9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Jesus said to them,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y time has not yet come, but your time is always ready.  The world cannot hate you, but it hates Me because I testify of it that its works are evil.  You go up to this feast.  I am not yet going up to this feast, for My time has not yet fully come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v. 6-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remained in Galilee a little lo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155-3961-468F-AD8B-7E1619244004}" type="slidenum">
              <a:t>12</a:t>
            </a:fld>
          </a:p>
        </p:txBody>
      </p:sp>
    </p:spTree>
  </p:cSld>
  <p:transition>
    <p:blinds dir="ver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esus Goes To Jerusalem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hn 7:10; Luke 9:51-5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brethren went ahead to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, Jesus and His disciples went, but not ope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amaritan village would not accept Him – they knew He was going to the f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nt on to another vil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lesson – Jesus enters Jerusalem -  opposition toward Him becomes stro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5181480"/>
            <a:ext cx="30481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3FB-4A36-4134-B0F5-205EEACC943F}" type="slidenum">
              <a:t>13</a:t>
            </a:fld>
          </a:p>
        </p:txBody>
      </p:sp>
    </p:spTree>
  </p:cSld>
  <p:transition>
    <p:blinds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of Chris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752480"/>
            <a:ext cx="3886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Quar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of Min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C25-09A7-476C-9161-54B523844F01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5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sciples Found Disputing 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9:33-37; Matt. 18:1-5; Luke 9:46-4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:  Which of them would be greatest in the kingdom of heav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explained greates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of a little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converted as a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rvant of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hat is least shall be g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ceive Christ is to receive the 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418-EC7B-4239-98CD-03D83CE0AFB9}" type="slidenum">
              <a:t>3</a:t>
            </a:fld>
          </a:p>
        </p:txBody>
      </p:sp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oe To Those Who Offend Others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9:42-48; Matt. 18:6-1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ose who offend believer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o cause believers to sin)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t is 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a millstone were hanged around your neck and be thrown into the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t is 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your hand or foot offend you to cut them off and to go through life maimed rather than being cast into everlasting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t is 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you pluck out your eye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..woe to that man by whom the offense comes!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att. 18: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5F8-3E83-4C7A-8A12-78B7FFE0C088}" type="slidenum">
              <a:t>4</a:t>
            </a:fld>
          </a:p>
        </p:txBody>
      </p:sp>
    </p:spTree>
  </p:cSld>
  <p:transition>
    <p:blinds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arable of the Lost Sheep 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18:11-14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. 18:11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For the Son of Man has come to save that which was los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epherd rejoiced over finding one lost sh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wise, it is not God’s will that any of these “little ones” be l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ones” refer to those believers following Jesus (verse 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32F-EF97-40C8-8D8F-060F46741BDE}" type="slidenum">
              <a:t>5</a:t>
            </a:fld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aling With Trespasses 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18:15-2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r brother sins against yo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o him in private (alone) with the 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he does not listen, take one or two  witnesses to confirm your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he still does not listen, you and the witnesses must tell it to the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urch must then go to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is procedure fails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no further religious fellowship with him (or h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DFD-EE61-4B3D-BD48-94AC18EB5523}" type="slidenum">
              <a:t>6</a:t>
            </a:fld>
          </a:p>
        </p:txBody>
      </p:sp>
    </p:spTree>
  </p:cSld>
  <p:transition>
    <p:blinds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aling With Forgiveness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18:21-2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er’s questions to Jes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often must we forgive a broth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 tim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respon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seventy times seve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 back: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Blessed are the merciful: for they shall receive mercy.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tt. 5: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C6A-7FA3-431D-97B7-F1B8C09B7DCF}" type="slidenum">
              <a:t>7</a:t>
            </a:fld>
          </a:p>
        </p:txBody>
      </p:sp>
    </p:spTree>
  </p:cSld>
  <p:transition>
    <p:blinds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Parable On Forgiveness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18:23-35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rtain king took his servants into account (a reckoning of their deb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wed him 10,000 tal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rvant had no way to p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 wanted to sell him and his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rvant begged for patience in paying him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 had compassion and forgave the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servant threatened another who owed him only a hundred p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rvant did not show compassion and put the debtor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28B-D15F-4712-9D89-D745EB2DB9F7}" type="slidenum">
              <a:t>8</a:t>
            </a:fld>
          </a:p>
        </p:txBody>
      </p:sp>
    </p:spTree>
  </p:cSld>
  <p:transition>
    <p:blinds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Parable On Forgiveness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18:23-35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g was told what was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called for the wicked serv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 was full of wr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rvant was tormented until all of his former debt was p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al of the parable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 My heavenly Father also will do to you if each of you, from his heart, does not forgive his brother his trespasses.”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att. 18:3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008-33B9-4FC9-9A94-814B29D0C74C}" type="slidenum">
              <a:t>9</a:t>
            </a:fld>
          </a:p>
        </p:txBody>
      </p:sp>
    </p:spTree>
  </p:cSld>
  <p:transition>
    <p:blinds dir="ver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3:14:09Z</dcterms:created>
  <dc:creator>Frank D Vines</dc:creator>
  <dc:description/>
  <dc:language>en-US</dc:language>
  <cp:lastModifiedBy>Frank D Vines</cp:lastModifiedBy>
  <dcterms:modified xsi:type="dcterms:W3CDTF">2006-09-27T23:38:16Z</dcterms:modified>
  <cp:revision>30</cp:revision>
  <dc:subject/>
  <dc:title>“Sir, We Would See Jesus”</dc:title>
</cp:coreProperties>
</file>